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51675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524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53600" y="650520"/>
            <a:ext cx="434340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3408-4F40-4F48-AD2D-D4E58A85AF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861-F2C1-49FF-9C93-DEF13F931E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089A-A865-42FD-B556-0559D2F7B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88C9-8862-48CE-87B6-179418B357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256E-D7FB-4084-BEA2-EF3435534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36AB-5772-4D0A-AF12-11591C099E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2317-9001-4B93-8C6D-8EE98864E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C5B5-582B-4EDF-9BEE-8A88FC1049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E46-F738-44A9-8B79-C3DB3DC11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B0DD-536E-415C-AE48-FBC482E181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E28-D30A-4F45-87AE-C824EF693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9528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FB24-599F-480B-843B-01BF8C0F3F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249760"/>
            <a:ext cx="3056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95280" y="0"/>
            <a:ext cx="305604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5396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4880" y="4125600"/>
            <a:ext cx="56433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995640" y="8250120"/>
            <a:ext cx="3056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2ADF-C7A8-48A3-9CD9-C3E98DE08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EB70-2AF1-4E2D-9562-84724B04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770E-6356-4A0C-BAFC-81E0362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EF22-C00A-488F-8A15-BB8C6E75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35C1-B3BB-4F30-BD0E-800A02AE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E50D-F085-4E26-A6A1-3D930C16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4AB5-FF7A-40B7-A4E0-667B1863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4BA2-D0E2-4E9B-BA2E-2759390F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CDFA-6059-4FA1-B9CA-6C4ECE2D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7636-7056-4B73-A04B-D6B63708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68C6-DC79-4D0F-AC4D-DC50924C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0BFB-5BAC-467C-9BA2-2ADB10E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EEE7-3019-4440-B5EB-4463EDBB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9B6C-8E99-4EB5-8A09-0DE77AB9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1915-A52D-4B30-AEB8-D470BBCB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C8AD-C550-43CA-9B19-9CBE6392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49D3-3C29-489E-AD19-D494B5C6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04FB-F0C5-4EEA-A0F3-76D82532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F78B-941C-4A25-BF07-D8B40A4D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E7CD-9A4E-4EDA-82FF-0286D83B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A8A0-7772-4070-B7A1-7A76D4CC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65E9-D8AC-421C-859E-B54E0533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207C-58B2-4B0C-BC2C-F3C291D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8DC3-89FE-49A7-B839-69159D76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FE9B-72E7-4669-AB2A-5FCB0946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B2F1-8F3E-4363-B8D3-019DEF71C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9BDB-4D47-4611-973D-0B2CE4F712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The Study of Change</a:t>
            </a: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2391-0EF3-4D71-909B-04F21016C7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hysical or Chem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hys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 not change the composition or identity of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ice melting or salt dissolving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hemical chang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anges the composition or identity of the substance/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 hydrogen burn in air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876920"/>
            <a:ext cx="6476760" cy="1981080"/>
            <a:chOff x="1219320" y="4876920"/>
            <a:chExt cx="6476760" cy="1981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rcRect l="0" t="13748" r="0" b="0"/>
            <a:stretch/>
          </p:blipFill>
          <p:spPr>
            <a:xfrm>
              <a:off x="4046040" y="4876920"/>
              <a:ext cx="36500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9320" y="5564880"/>
              <a:ext cx="240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ydrogen burns in air to form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2F5F-16D2-4B7E-89E8-0199CBC82A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8"/>
          <p:cNvSpPr/>
          <p:nvPr/>
        </p:nvSpPr>
        <p:spPr>
          <a:xfrm>
            <a:off x="457200" y="36504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Measurements and Un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371600"/>
            <a:ext cx="8382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s of Macroscopic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croscopic Properties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.g.: length, weight, temperature,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74AB-7C18-4CD0-B87D-EA4FBF1D62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304920" y="457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SI Units: International System of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6000" y="1916280"/>
            <a:ext cx="8748720" cy="35319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E3C1-A280-413F-8F65-53F4515F9A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ntent Placeholder 3"/>
          <p:cNvSpPr/>
          <p:nvPr/>
        </p:nvSpPr>
        <p:spPr>
          <a:xfrm>
            <a:off x="22860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unit of ma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The 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The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) The 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The 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3808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3"/>
          <p:cNvSpPr/>
          <p:nvPr/>
        </p:nvSpPr>
        <p:spPr>
          <a:xfrm>
            <a:off x="4648320" y="137160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Kg is the SI uni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b)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15B98-E1BF-480A-81B4-E99E8CDBD0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95" descr="01_03"/>
          <p:cNvPicPr/>
          <p:nvPr/>
        </p:nvPicPr>
        <p:blipFill>
          <a:blip r:embed="rId1"/>
          <a:srcRect l="0" t="3312" r="0" b="0"/>
          <a:stretch/>
        </p:blipFill>
        <p:spPr>
          <a:xfrm>
            <a:off x="228600" y="1297080"/>
            <a:ext cx="8686800" cy="47307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151" name="Right Arrow 5"/>
          <p:cNvSpPr/>
          <p:nvPr/>
        </p:nvSpPr>
        <p:spPr>
          <a:xfrm>
            <a:off x="380880" y="3809880"/>
            <a:ext cx="5943600" cy="76320"/>
          </a:xfrm>
          <a:prstGeom prst="rightArrow">
            <a:avLst>
              <a:gd name="adj1" fmla="val 50000"/>
              <a:gd name="adj2" fmla="val 4975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343400" y="3276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Up Arrow 7"/>
          <p:cNvSpPr/>
          <p:nvPr/>
        </p:nvSpPr>
        <p:spPr>
          <a:xfrm flipH="1">
            <a:off x="5105520" y="2438280"/>
            <a:ext cx="411120" cy="129564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own Arrow 9"/>
          <p:cNvSpPr/>
          <p:nvPr/>
        </p:nvSpPr>
        <p:spPr>
          <a:xfrm>
            <a:off x="5105520" y="4038480"/>
            <a:ext cx="380880" cy="15242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80880" y="3049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193D-A9B5-4812-844E-426F3F26F9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320" y="1295280"/>
            <a:ext cx="9067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I prefixes giga- and micro represent, respectively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and 10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80880" y="441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C4DF3-0071-45C8-AEE8-C2B87AB48E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Base Unit  (e.g. km → 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Prefix (e.g. m → k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 Prefix (e.g. km → 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788F-4FF1-4E10-A657-42CBE848B5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Units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9999cc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Bas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e.g. 6km → ?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(km is 10</a:t>
            </a:r>
            <a:r>
              <a:rPr b="0" lang="en-GB" sz="2800" spc="-1" strike="noStrike" baseline="30000">
                <a:solidFill>
                  <a:srgbClr val="9999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 m from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cc"/>
                </a:solidFill>
                <a:latin typeface="Comic Sans MS"/>
              </a:rPr>
              <a:t>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ase Uni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.g. 6m → ?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6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-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m (m is 10</a:t>
            </a:r>
            <a:r>
              <a:rPr b="0" lang="ar-SA" sz="28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km (reverse the power sign from the table of prefi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9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Prefix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→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refi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e.g. 6 km → ?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6 x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 </a:t>
            </a:r>
            <a:r>
              <a:rPr b="1" lang="en-GB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 (-9)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= 6 x 10</a:t>
            </a:r>
            <a:r>
              <a:rPr b="0" lang="ar-SA" sz="2800" spc="-1" strike="noStrike" baseline="30000">
                <a:solidFill>
                  <a:srgbClr val="008000"/>
                </a:solidFill>
                <a:latin typeface="Comic Sans MS"/>
              </a:rPr>
              <a:t>-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nm (km is 1</a:t>
            </a:r>
            <a:r>
              <a:rPr b="0" lang="ar-SA" sz="2800" spc="-1" strike="noStrike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 put negative sign (the nm is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m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E678-3231-45AF-953B-C884DBDCAC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tent Placeholder 1"/>
          <p:cNvSpPr/>
          <p:nvPr/>
        </p:nvSpPr>
        <p:spPr>
          <a:xfrm>
            <a:off x="38088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many microseconds are in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econ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 1 x 10 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808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96A2-03E0-48AE-AEB2-9D9FE86079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380880" y="685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BF0C-FFBC-4ADE-A649-22FB824331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0" y="990720"/>
            <a:ext cx="8964720" cy="44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Code/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em 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Course I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r. Nuha Waz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Assistant Professor of Physica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ffice: Building 7 /2</a:t>
            </a:r>
            <a:r>
              <a:rPr b="1" lang="en-GB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Floor/ Office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omic Sans MS"/>
              </a:rPr>
              <a:t>Office hours: S.M.W.. 12-1 &amp; ...T.. 9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ebsite: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wazzan.kau.edu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mail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110_nwazzan@hot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D8D1-CD6B-49C8-BEFE-A7540DAA79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Content Placeholder 1"/>
          <p:cNvSpPr/>
          <p:nvPr/>
        </p:nvSpPr>
        <p:spPr>
          <a:xfrm>
            <a:off x="304920" y="609480"/>
            <a:ext cx="8229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of the following is the small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 21 m  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2.1 x 10</a:t>
            </a:r>
            <a:r>
              <a:rPr b="0" lang="pl-P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2.1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 21 mm →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0.02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d) 2.1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m → 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2.1 x 10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omic Sans MS"/>
              </a:rPr>
              <a:t>-8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3232"/>
                </a:solidFill>
                <a:latin typeface="Comic Sans MS"/>
              </a:rPr>
              <a:t>Explana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though 2.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rgest number in this question, the units of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icometers) are the smallest units 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it the smallest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0C74-97BF-41F4-874B-2FF2D538C8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560" y="45720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ameter of an atom is approximately 1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m. What is this diameter when express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anometer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  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cccce6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cccce6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cccce6"/>
                </a:solidFill>
                <a:latin typeface="Comic Sans MS"/>
              </a:rPr>
              <a:t>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421A-DCD0-4DB4-AA8A-46CE5ABEC3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04920" y="457200"/>
            <a:ext cx="807696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Which of these quantities represents the largest mas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0010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2.0 </a:t>
            </a:r>
            <a:r>
              <a:rPr b="0" lang="en-US" sz="2800" spc="-1" strike="noStrike">
                <a:solidFill>
                  <a:srgbClr val="666699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10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ut all of them in the sam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273A-5B4F-4D71-84FB-6DA42725E4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28240" y="1066320"/>
            <a:ext cx="6629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Mass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s the measure of the amount of matter i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Comic Sans MS"/>
              </a:rPr>
              <a:t>SI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unit of mass is the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(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 kg = 1000 g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Weight: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is the measurement of the pull of gravity on an objec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an object doesn't change when an object's location changes.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Weigh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 on the other hand does change with loc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hemist are interested primarily in </a:t>
            </a:r>
            <a:r>
              <a:rPr b="1" lang="en-US" sz="2700" spc="-1" strike="noStrike">
                <a:solidFill>
                  <a:srgbClr val="00b050"/>
                </a:solidFill>
                <a:latin typeface="Comic Sans MS"/>
              </a:rPr>
              <a:t>mas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01_03"/>
          <p:cNvPicPr/>
          <p:nvPr/>
        </p:nvPicPr>
        <p:blipFill>
          <a:blip r:embed="rId1"/>
          <a:srcRect l="0" t="0" r="20710" b="0"/>
          <a:stretch/>
        </p:blipFill>
        <p:spPr>
          <a:xfrm>
            <a:off x="6781680" y="533520"/>
            <a:ext cx="2133720" cy="2087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600200" y="3733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weight = </a:t>
            </a:r>
            <a:r>
              <a:rPr b="0" i="1" lang="en-US" sz="2800" spc="-1" strike="noStrike">
                <a:solidFill>
                  <a:srgbClr val="9d3232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9d3232"/>
                </a:solidFill>
                <a:latin typeface="Comic Sans MS"/>
              </a:rPr>
              <a:t> x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791320" y="34290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The weight of man on earth is 5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3232"/>
                </a:solidFill>
                <a:latin typeface="Comic Sans MS"/>
              </a:rPr>
              <a:t>is 8.25 pounds on m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80880" y="3808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Mass and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83E1-78E1-4DB9-A81C-EEDE4BF42E3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I Derived Unit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defined in terms of the seven base quantiti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v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system of quantity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Are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dth x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wid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length =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t of Area = m× m =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267160" y="4648320"/>
            <a:ext cx="3669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eat units lik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4920" y="3808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I Derived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276720" y="5638680"/>
            <a:ext cx="3276360" cy="990720"/>
          </a:xfrm>
          <a:prstGeom prst="wedgeRectCallout">
            <a:avLst>
              <a:gd name="adj1" fmla="val -3050"/>
              <a:gd name="adj2" fmla="val -1017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derived unit fo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5257800" y="3657600"/>
            <a:ext cx="2590920" cy="609480"/>
          </a:xfrm>
          <a:prstGeom prst="wedgeRectCallout">
            <a:avLst>
              <a:gd name="adj1" fmla="val -90504"/>
              <a:gd name="adj2" fmla="val 19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Base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7339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7DAD-2692-4B54-95AB-BAEB43C772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743200" y="414360"/>
            <a:ext cx="662940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= width × length × h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m × m × m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50280" y="411480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c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2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6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92400" y="4724280"/>
            <a:ext cx="56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1 d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(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1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)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= 1 x 10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-3</a:t>
            </a:r>
            <a:r>
              <a:rPr b="1" lang="en-US" sz="2800" spc="-1" strike="noStrike">
                <a:solidFill>
                  <a:srgbClr val="00b0f0"/>
                </a:solidFill>
                <a:latin typeface="Comic Sans MS"/>
              </a:rPr>
              <a:t> m</a:t>
            </a:r>
            <a:r>
              <a:rPr b="1" lang="en-US" sz="2800" spc="-1" strike="noStrike" baseline="30000">
                <a:solidFill>
                  <a:srgbClr val="00b0f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2728800" cy="49528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9"/>
          <p:cNvSpPr/>
          <p:nvPr/>
        </p:nvSpPr>
        <p:spPr>
          <a:xfrm>
            <a:off x="3581280" y="2590920"/>
            <a:ext cx="5181840" cy="990360"/>
          </a:xfrm>
          <a:prstGeom prst="wedgeRectCallout">
            <a:avLst>
              <a:gd name="adj1" fmla="val 6708"/>
              <a:gd name="adj2" fmla="val -9599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is the SI derived unit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2E2F-AC79-4674-BB6A-C4BDF57851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266760" y="338040"/>
            <a:ext cx="90295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 unit of volume is liter (L) and milliliter 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L= 1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liter (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L = 1d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A liter: is the volume occupied by one cubic decimeter</a:t>
            </a:r>
            <a:r>
              <a:rPr b="1" lang="en-GB" sz="4400" spc="-1" strike="noStrike" baseline="30000">
                <a:solidFill>
                  <a:srgbClr val="ff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ship between milliliter (ml) and metric syste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 mL = 1cm</a:t>
            </a:r>
            <a:r>
              <a:rPr b="1" lang="en-US" sz="2800" spc="-1" strike="noStrike" baseline="30000">
                <a:solidFill>
                  <a:srgbClr val="008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EE74-1E7E-4F47-9BF5-9D8D0961EC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How many cubic centimeters are there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exactly one cubic meter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1 </a:t>
            </a:r>
            <a:r>
              <a:rPr b="0" lang="en-US" sz="3000" spc="-1" strike="noStrike">
                <a:solidFill>
                  <a:srgbClr val="0070c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70c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70c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1m 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(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1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000" indent="-37332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697D-9BD8-4620-82FB-0861675C1A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ensity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amount of matter in a given amount of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b0f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mic Sans MS"/>
              </a:rPr>
              <a:t>SI derived unit for density is kg/m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995400" y="3048120"/>
            <a:ext cx="3034800" cy="779760"/>
            <a:chOff x="995400" y="3048120"/>
            <a:chExt cx="3034800" cy="779760"/>
          </a:xfrm>
        </p:grpSpPr>
        <p:sp>
          <p:nvSpPr>
            <p:cNvPr id="189" name="Text Box 4"/>
            <p:cNvSpPr/>
            <p:nvPr/>
          </p:nvSpPr>
          <p:spPr>
            <a:xfrm>
              <a:off x="995400" y="32292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density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2833200" y="304812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680920" y="336816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volu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2734920" y="343800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349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Den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001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6392-E188-4580-9C2F-3FF73825F5D0}" type="slidenum">
              <a:t>28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Comic Sans MS"/>
              </a:rPr>
              <a:t>Density decrease with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ml  &amp; </a:t>
            </a:r>
            <a:r>
              <a:rPr b="0" lang="ar-SA" sz="3600" spc="-1" strike="noStrike">
                <a:solidFill>
                  <a:srgbClr val="700e2a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g/cm</a:t>
            </a:r>
            <a:r>
              <a:rPr b="0" lang="en-US" sz="3600" spc="-1" strike="noStrike" baseline="30000">
                <a:solidFill>
                  <a:srgbClr val="700e2a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700e2a"/>
                </a:solidFill>
                <a:latin typeface="Comic Sans MS"/>
              </a:rPr>
              <a:t> for liquid and sol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/L = 0.001 g/ml for gases (Because density of gases are very l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2053-B49D-4522-967D-C5AC5CFFB06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Required Textbook and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209680"/>
            <a:ext cx="609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y: R. Chang, 1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 edi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cGraw Hill inter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Handouts (PPt sl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_vv4-0" descr="http://i.ebayimg.com/21/!B)7q8lQ!Wk~$(KGrHqEOKnQEw8ojvO2CBMPkKfyHb!~~_12.JPG"/>
          <p:cNvPicPr/>
          <p:nvPr/>
        </p:nvPicPr>
        <p:blipFill>
          <a:blip r:embed="rId3"/>
          <a:stretch/>
        </p:blipFill>
        <p:spPr>
          <a:xfrm>
            <a:off x="6248520" y="2057400"/>
            <a:ext cx="281916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7AC8-6366-49AB-88B3-56D8A4D6E9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Densit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75248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1752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289548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m &amp;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ff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97180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m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 = m /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201840"/>
            <a:ext cx="2286000" cy="31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Given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V &amp;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? </a:t>
            </a: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m = d x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ABDB-5932-4132-9F14-2E17B87149F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456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Gold metal has a volume o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15.6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, with a mass of 301 g  What 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its densit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533520" y="482904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301g /  15.6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19.3 g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80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1 p19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B19C-ACA7-433E-B3B5-D9BC40012C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3805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actice Exercise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piece of platinum metal with a dens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of 21.5 g/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 has a volume of 4.49 cm</a:t>
            </a:r>
            <a:r>
              <a:rPr b="1" lang="en-US" sz="31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3513240" y="411480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764080" y="5715000"/>
            <a:ext cx="423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21.5 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x 4.49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 96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 flipV="1">
            <a:off x="411480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 flipV="1">
            <a:off x="6095880" y="57913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7FD6-6495-4F56-8BD4-DD1BD33B71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0520" y="4269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xample 1.2 p19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The density of mercury is 13.6 g/mL h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omic Sans MS"/>
              </a:rPr>
              <a:t>a volume of 5.50 mL.  What is its ma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513240" y="396252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 = m/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2209680" y="5454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13.6 g/mL x 5.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= 74.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 flipV="1">
            <a:off x="419112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 flipV="1">
            <a:off x="5867280" y="55627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A6E8-2BD0-4AD0-9126-C75DF80042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29080" y="1400040"/>
            <a:ext cx="2210040" cy="4335480"/>
            <a:chOff x="5329080" y="1400040"/>
            <a:chExt cx="2210040" cy="43354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5329080" y="1400040"/>
              <a:ext cx="204156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6838920" y="5209920"/>
              <a:ext cx="7002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029360" y="520056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8186760" y="386712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3728880" y="1352520"/>
            <a:ext cx="86076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6929280" y="1628640"/>
            <a:ext cx="547920" cy="2633760"/>
            <a:chOff x="6929280" y="1628640"/>
            <a:chExt cx="547920" cy="2633760"/>
          </a:xfrm>
        </p:grpSpPr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7143840" y="162864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7110360" y="316692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8"/>
            <a:stretch/>
          </p:blipFill>
          <p:spPr>
            <a:xfrm>
              <a:off x="6929280" y="3395520"/>
              <a:ext cx="4572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7172280" y="403380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7116840" y="1371600"/>
            <a:ext cx="1312920" cy="4185720"/>
            <a:chOff x="7116840" y="1371600"/>
            <a:chExt cx="1312920" cy="4185720"/>
          </a:xfrm>
        </p:grpSpPr>
        <p:pic>
          <p:nvPicPr>
            <p:cNvPr id="230" name="" descr=""/>
            <p:cNvPicPr/>
            <p:nvPr/>
          </p:nvPicPr>
          <p:blipFill>
            <a:blip r:embed="rId10"/>
            <a:stretch/>
          </p:blipFill>
          <p:spPr>
            <a:xfrm>
              <a:off x="7388280" y="137160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"/>
            <a:stretch/>
          </p:blipFill>
          <p:spPr>
            <a:xfrm>
              <a:off x="7116840" y="536724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2362320" y="571500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Kelvin is the SI Base Unit of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44792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mic Sans MS"/>
              </a:rPr>
              <a:t>These thermometers defined the Freezing Point (F.P.) &amp; the Boiling  Point (B.P.)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600E-EC61-42F0-8931-27FA1C80F4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57200" y="36504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Sc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091200" y="2522520"/>
            <a:ext cx="2209320" cy="4335480"/>
            <a:chOff x="6091200" y="2522520"/>
            <a:chExt cx="2209320" cy="433548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6091200" y="2522520"/>
              <a:ext cx="204120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"/>
            <a:stretch/>
          </p:blipFill>
          <p:spPr>
            <a:xfrm>
              <a:off x="7600680" y="6332400"/>
              <a:ext cx="69984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7791480" y="6323040"/>
            <a:ext cx="533520" cy="31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948880" y="4989600"/>
            <a:ext cx="271440" cy="263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491000" y="2475000"/>
            <a:ext cx="860400" cy="416232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691400" y="2751120"/>
            <a:ext cx="547200" cy="2633760"/>
            <a:chOff x="7691400" y="2751120"/>
            <a:chExt cx="547200" cy="2633760"/>
          </a:xfrm>
        </p:grpSpPr>
        <p:pic>
          <p:nvPicPr>
            <p:cNvPr id="242" name="" descr=""/>
            <p:cNvPicPr/>
            <p:nvPr/>
          </p:nvPicPr>
          <p:blipFill>
            <a:blip r:embed="rId6"/>
            <a:stretch/>
          </p:blipFill>
          <p:spPr>
            <a:xfrm>
              <a:off x="7905600" y="2751120"/>
              <a:ext cx="3042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7"/>
            <a:stretch/>
          </p:blipFill>
          <p:spPr>
            <a:xfrm>
              <a:off x="7872120" y="42894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"/>
            <a:stretch/>
          </p:blipFill>
          <p:spPr>
            <a:xfrm>
              <a:off x="7691400" y="4518000"/>
              <a:ext cx="4568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7934040" y="515628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7878600" y="2494080"/>
            <a:ext cx="1312920" cy="4185720"/>
            <a:chOff x="7878600" y="2494080"/>
            <a:chExt cx="1312920" cy="418572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8150040" y="2494080"/>
              <a:ext cx="1041480" cy="39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11"/>
            <a:stretch/>
          </p:blipFill>
          <p:spPr>
            <a:xfrm>
              <a:off x="7878600" y="6489720"/>
              <a:ext cx="761760" cy="19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52280" y="1295280"/>
            <a:ext cx="8534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hree temperature scales, their units a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egrees Celsius </a:t>
            </a:r>
            <a:r>
              <a:rPr b="0" lang="en-US" sz="2800" spc="-1" strike="noStrike" baseline="30000">
                <a:solidFill>
                  <a:srgbClr val="6666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egrees Fahrenheit </a:t>
            </a:r>
            <a:r>
              <a:rPr b="0" lang="en-US" sz="2800" spc="-1" strike="noStrike" baseline="30000">
                <a:solidFill>
                  <a:srgbClr val="008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lvin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CCB4-8875-4D75-A1EE-B1ABA0DD0C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80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Degrees Celsius </a:t>
            </a:r>
            <a:r>
              <a:rPr b="0" lang="en-GB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C:</a:t>
            </a:r>
            <a:r>
              <a:rPr b="0" lang="ar-SA" sz="32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 Scale 0 </a:t>
            </a:r>
            <a:r>
              <a:rPr b="0" lang="en-GB" sz="3200" spc="-1" strike="noStrike">
                <a:solidFill>
                  <a:srgbClr val="9999ff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9999ff"/>
                </a:solidFill>
                <a:latin typeface="Comic Sans MS"/>
              </a:rPr>
              <a:t>100 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Kelvin K: Scale 273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3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Thus: 100 divisions or 10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Comic Sans MS"/>
              </a:rPr>
              <a:t>1K = 1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grees Fahrenheit 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r>
              <a:rPr b="0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Scale from 32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2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us: 180 divisions or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us: the size of degree in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scale is only 100/180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5/9 of a degree on the 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 scale</a:t>
            </a:r>
            <a:r>
              <a:rPr b="0" lang="ar-SA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 = (5/9) 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E5CE-1DAE-42BB-ADA9-8CB6686742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 °C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+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i-FI" sz="2800" spc="-1" strike="noStrike">
                <a:solidFill>
                  <a:srgbClr val="7030a0"/>
                </a:solidFill>
                <a:latin typeface="Comic Sans MS"/>
              </a:rPr>
              <a:t>K </a:t>
            </a: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- 273.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Fahrenheit °F →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or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= [ (9/5) × </a:t>
            </a:r>
            <a:r>
              <a:rPr b="1" lang="de-DE" sz="2800" spc="-1" strike="noStrike">
                <a:solidFill>
                  <a:srgbClr val="00b0f0"/>
                </a:solidFill>
                <a:latin typeface="Comic Sans MS"/>
              </a:rPr>
              <a:t>°C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] + 3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f0"/>
                </a:solidFill>
                <a:latin typeface="Comic Sans MS"/>
              </a:rPr>
              <a:t>°C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(5/9) (</a:t>
            </a:r>
            <a:r>
              <a:rPr b="1" lang="fr-FR" sz="2800" spc="-1" strike="noStrike">
                <a:solidFill>
                  <a:srgbClr val="c00000"/>
                </a:solidFill>
                <a:latin typeface="Comic Sans MS"/>
              </a:rPr>
              <a:t>°F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-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 relatationship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         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°F       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de-DE" sz="2800" spc="-1" strike="noStrike">
                <a:solidFill>
                  <a:srgbClr val="c00000"/>
                </a:solidFill>
                <a:latin typeface="Comic Sans MS"/>
              </a:rPr>
              <a:t>      °F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fr-FR" sz="2800" spc="-1" strike="noStrike">
                <a:solidFill>
                  <a:srgbClr val="7030a0"/>
                </a:solidFill>
                <a:latin typeface="Comic Sans MS"/>
              </a:rPr>
              <a:t>K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us: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457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 Units Conve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1600200"/>
            <a:ext cx="2971800" cy="1143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733920"/>
            <a:ext cx="3886200" cy="99036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6248520"/>
            <a:ext cx="2362320" cy="457200"/>
          </a:xfrm>
          <a:prstGeom prst="wedgeRectCallout">
            <a:avLst>
              <a:gd name="adj1" fmla="val -25805"/>
              <a:gd name="adj2" fmla="val -74305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248520"/>
            <a:ext cx="2438280" cy="457200"/>
          </a:xfrm>
          <a:prstGeom prst="wedgeRectCallout">
            <a:avLst>
              <a:gd name="adj1" fmla="val 523"/>
              <a:gd name="adj2" fmla="val -83333"/>
            </a:avLst>
          </a:prstGeom>
          <a:noFill/>
          <a:ln w="255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3E8A-016B-4F7A-B254-7A196937DB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088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(a) Convert 224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 </a:t>
            </a:r>
            <a:r>
              <a:rPr b="0" lang="de-DE" sz="2800" spc="-1" strike="noStrike">
                <a:solidFill>
                  <a:srgbClr val="00007d"/>
                </a:solidFill>
                <a:latin typeface="Comic Sans MS"/>
              </a:rPr>
              <a:t>]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[°F = (9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22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b) Convert -452 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°F 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C = (5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/9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(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452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- 32</a:t>
            </a:r>
            <a:r>
              <a:rPr b="0" lang="en-US" sz="32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) = -269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(c) Convert 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-38.9 </a:t>
            </a:r>
            <a:r>
              <a:rPr b="0" lang="en-US" sz="3200" spc="-1" strike="noStrike" baseline="30000">
                <a:solidFill>
                  <a:srgbClr val="9999ff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°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K =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-38.9 </a:t>
            </a:r>
            <a:r>
              <a:rPr b="0" lang="fi-FI" sz="3200" spc="-1" strike="noStrike">
                <a:solidFill>
                  <a:srgbClr val="9999ff"/>
                </a:solidFill>
                <a:latin typeface="Comic Sans MS"/>
              </a:rPr>
              <a:t>°C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+ 273.15</a:t>
            </a:r>
            <a:r>
              <a:rPr b="0" lang="fi-FI" sz="32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Comic Sans MS"/>
              </a:rPr>
              <a:t>= 234.3 </a:t>
            </a:r>
            <a:r>
              <a:rPr b="0" lang="fi-FI" sz="3200" spc="-1" strike="noStrike">
                <a:solidFill>
                  <a:srgbClr val="00007d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xample 1.3 p20 &amp; 21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2CA7-EE26-42AB-8A65-F87FE51B4B7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3520" y="457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0000"/>
                </a:solidFill>
                <a:uFillTx/>
                <a:latin typeface="Comic Sans MS"/>
              </a:rPr>
              <a:t>H.W.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 Ammonia boils at -33.4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C. Wh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temperature is this in </a:t>
            </a:r>
            <a:r>
              <a:rPr b="0" lang="en-US" sz="31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F? 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60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-92.1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(c)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-28.1</a:t>
            </a:r>
            <a:r>
              <a:rPr b="0" lang="en-US" sz="3100" spc="-1" strike="noStrike">
                <a:solidFill>
                  <a:srgbClr val="0070c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+13.5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57200" y="4876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°C]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°F = [(9</a:t>
            </a:r>
            <a:r>
              <a:rPr b="0" lang="de-DE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/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) × -33.4 °C] + 32 = 435</a:t>
            </a:r>
            <a:r>
              <a:rPr b="0" lang="en-US" sz="2800" spc="-1" strike="noStrike" baseline="30000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2800" spc="-1" strike="noStrike" baseline="30000">
                <a:solidFill>
                  <a:srgbClr val="0070c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4FEE-DB15-4982-BCEE-C5732C9D9B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ourse Gr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04920" y="1295280"/>
            <a:ext cx="8588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wo exams during the te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irst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 1-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 Chapters 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econd exam 30 mark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om lecture 1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apters 5,7-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0e2a"/>
                </a:solidFill>
                <a:latin typeface="Comic Sans MS"/>
              </a:rPr>
              <a:t>Final term exam 40 marks </a:t>
            </a: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from lecture 1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0e2a"/>
                </a:solidFill>
                <a:latin typeface="Comic Sans MS"/>
                <a:ea typeface="Times New Roman"/>
              </a:rPr>
              <a:t>(Chapters 1,2,3,4,5,7,8,9,10,14,15,24,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N for 25% absence according to colleg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34CA-D194-488C-AF86-CAFF217694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1080" y="198108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341E-77B4-4178-91E3-C168C5C0DB3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62120" y="2666880"/>
            <a:ext cx="70866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ges 16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mework  Page 32 &amp; 3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17,1.22,1.23,1.25,1.2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19320" y="10494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8BAF3-0253-470C-B638-15C6BE415B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95120" y="12679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99ff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996633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SI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Prefi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Units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rive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Mass and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emperatur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5560" indent="-207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" y="363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 The Study of Change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0AA6-5F8D-4460-8A47-EE0D268A47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"/>
          <p:cNvSpPr/>
          <p:nvPr/>
        </p:nvSpPr>
        <p:spPr>
          <a:xfrm>
            <a:off x="3808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Study of Chemi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412" r="0" b="0"/>
          <a:stretch/>
        </p:blipFill>
        <p:spPr>
          <a:xfrm>
            <a:off x="304920" y="2351160"/>
            <a:ext cx="8458200" cy="3516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32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Comic Sans MS"/>
              </a:rPr>
              <a:t>Ma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16444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crosc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C20E-955E-424E-B53E-EF70827E30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stry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study of matter and the changes it under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ter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ything that occupies space and has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stan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form of matter that has a definite composition and distinct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80880" y="3808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B959-E688-455C-ADDE-156F58F1F5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hree 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2"/>
          <p:cNvGrpSpPr/>
          <p:nvPr/>
        </p:nvGrpSpPr>
        <p:grpSpPr>
          <a:xfrm>
            <a:off x="1371600" y="1905120"/>
            <a:ext cx="6095520" cy="4647600"/>
            <a:chOff x="1371600" y="1905120"/>
            <a:chExt cx="6095520" cy="4647600"/>
          </a:xfrm>
        </p:grpSpPr>
        <p:pic>
          <p:nvPicPr>
            <p:cNvPr id="133" name="Picture 8" descr="01_07"/>
            <p:cNvPicPr/>
            <p:nvPr/>
          </p:nvPicPr>
          <p:blipFill>
            <a:blip r:embed="rId1"/>
            <a:srcRect l="13542" t="2780" r="14581" b="0"/>
            <a:stretch/>
          </p:blipFill>
          <p:spPr>
            <a:xfrm>
              <a:off x="1371600" y="1905120"/>
              <a:ext cx="6095520" cy="46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9"/>
            <p:cNvSpPr/>
            <p:nvPr/>
          </p:nvSpPr>
          <p:spPr>
            <a:xfrm>
              <a:off x="5961240" y="5700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>
              <a:off x="1532160" y="5493240"/>
              <a:ext cx="7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qu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4890960" y="19476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3808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States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AAAC-AB6A-4E82-A642-B58404EEC5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1-31T20:09:25Z</dcterms:modified>
  <cp:revision>218</cp:revision>
  <dc:subject/>
  <dc:title>General Chemistry CHEM 110</dc:title>
</cp:coreProperties>
</file>